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CE1-D5D7-4C1D-BE69-F72B27E1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791-8ABC-482D-9E36-0818F335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1F772-6395-4740-ADB6-C9D72C2B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04FF7-4CC5-4A09-8307-6BA7D397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7A8D1-EB4B-4291-8704-F6BE6174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BE5F2-7281-4C99-9D48-B34C411A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FD9C6-87BE-48DD-8113-2911DB8A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9F104-380C-4AA2-AE42-312CCB0A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66D1F-3442-42C6-A428-21C37B6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B2272-D080-4E31-A554-B35FC282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141F7-A2CC-4E8C-B147-C02AE6A3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6F822-455C-4FAA-A794-D715A4C1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1E0-20E3-4A15-AA39-B93FBD51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BE0A7-A20F-4831-B720-CA585D6E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D7D79-A0AD-4ECD-915D-07421AEE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C5DFB-D8AF-49E6-A367-91518C47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6DB6D-BA75-41F7-86FA-E65335E1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17655-5C15-48CA-9F47-3258C8B2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C82CE-9428-4937-88F0-A5EEDD25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BEFBC-4BCD-4949-BAB3-2D71B2A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6CC45-5DAD-4870-BD7F-E3D248BE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20654-6113-413B-A9D7-5A2D4523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EBDC9-16BF-4B0C-997C-8BCEBC9B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B78-1B55-4F6F-9030-77247B02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0547E-062B-48E2-ADE5-EFB2D8A2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07A52-2097-4AAE-AF25-84FE68D2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434DA-043D-41CC-9B93-5F18EAAC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3D1D8-371F-45AF-BDA8-A1236888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DB64C-06C1-464E-8718-381D9341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D0794-BACE-4849-BA91-1AF68AF4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AE741-8288-44E9-B0C4-8FEB0A7A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CA497-B202-4D91-AB69-DCFB7D64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D0FBF-03A5-431A-914A-12FC565A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DB24B-E44C-428B-A9DE-C946F595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5029-BDB6-46AF-886A-40520C2A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B31B7-A940-4CEE-A862-0B77DA5F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D4B31-8150-4825-BAB9-40B48D95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A36B3-D89B-4960-A4DE-D35E76CD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613F6-8E62-45A7-8524-2D3ADA7F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3701E-A27D-48FC-8D86-1D32FA25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21C82-C3E6-4A3E-80F9-F5969FA1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E1041-5158-4A7D-A1BD-9EE336A6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E3383-2083-489B-B79C-48180BEC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C3E4E-5E44-4C0B-B8D8-6C0BEB8B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0B58A-9893-4F6F-B2E7-3DCE53EC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4749-1899-4376-8C91-5D290E49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76E21-212F-485C-87A1-B5DB609B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AAD8C-5B11-48D4-8207-5CFB9690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A1C5B-9C10-4BF5-867A-01BC848E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F1BFE-D8E8-4504-B7AD-42CEF024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0FCE5-4F4E-4143-B936-F5F79D8E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9716-EEC8-425C-9BCF-37C07DF1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E16E-797B-4049-9C1F-F79B0D47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5AF9-A5F4-47CB-AF3A-BD8FACCB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F127-46BF-4D7D-9D44-02965392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830D-7F2D-496B-BEDA-CC512A30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F71-3FAC-4D5F-ACA2-A2AA3688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C4F0-5683-48AC-BB68-3ED5CCA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E3DE-3431-4958-9B23-88E6CA7E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6208-E543-4746-81EF-60896B9C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D0BE-EB89-46ED-AC67-3C556624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4B91-69A4-4E31-BC53-35BDCFFD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7B63-65A5-4A16-9479-E96901D8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BD885-E2CB-404B-AB2B-60E02468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B315-5B77-4E6E-A4F1-B954D96E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1ED22-9A45-4409-9EBE-9022BECA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7DD3-0A91-42F5-BCE8-3E80B20D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067-4549-47F3-ADC9-E8C6F4CB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480A3-E93D-4C14-AC2C-E369FA9F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5465-2C48-4568-AD90-3DCE0773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0BA0-4993-497C-B6A1-9456BB22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D1C9-01D9-4054-BD6F-0C7E71C0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19C4-D062-4880-8D9C-EC8DC1B0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907B-685C-4DA5-B231-3E42916E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585F5-8ED2-4846-9E7B-B2A792EE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333F-97A2-49F2-B62C-0F3EFD73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720E1-27C2-4F27-8A9B-7A0E7B68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39C53-0AA1-4F37-ACB7-87077F54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432-0583-4EF9-AD89-F37FE68E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02324-472F-40C2-8A9E-AA79226F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8C57A-39ED-44C8-8403-27B96A47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0834-F85E-4063-95E0-3F8FAAE6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A3D8-87D1-4EC1-9CB1-7EDBF8D2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CA9AA-4D06-46F7-8CDA-872D7ED9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04B1-019A-49F1-A897-F427A5A6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261DC-0A9F-40F4-A3F7-E42BFFBD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FA4E3-3016-4FE7-B12D-7959EAB2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5C758-FC29-4C5E-AC25-CDFB50FA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1234-A739-4FCB-B238-2710741E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B5F-4ACD-4270-BCA9-84A4C708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4B359-36A1-4FE7-B51B-A4258253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321A-E794-4E8B-872F-AF4FA844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07BEB-48A4-430F-9DAA-727B6E22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D543-DC9B-41BF-8245-0DE9A709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01421-B2CF-46B9-8E84-87CA8E50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3599-16B3-4F68-8F9A-8E1775B4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A1A2F-C550-45E3-97C0-F277D1A5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63A3-E4FC-49E1-938D-25A4F3B9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B6C92-BFC4-475E-A462-A6CB298D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8B22C-5A59-453C-A4B0-F3E8E4EC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BD9-FF89-426D-A5C1-1481EBBB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AA12E-D471-4389-B0D4-8BC3E035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05FA7-7089-4A38-BEB1-6E781BB9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B703D-994D-4D4D-A598-8C0A42F1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B5477-980A-4CC4-AEDA-5C386A4C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05F77-6A8A-4941-BE86-07D1D4FB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61C31-4E8B-41AA-8DA3-044A6946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354FE-3811-4A10-8C4D-9E75ED67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3D575-EBC4-461D-9755-FD25AEE9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23DCC-BDBA-4E02-AF02-44F67B3D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01121-7D41-45B0-8784-64DE266F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B81-5E9D-484A-8F47-F336F7CD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1E278-15CA-4E5F-901F-4D90588E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14A0-3BB9-4FA7-A0A3-07A37584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B6C53-DB18-4942-855A-5EACBA4E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4AEC4-885C-4AF5-8810-FC134FBB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88D31-82E0-47C4-BDB9-2EA64D10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0F30B-FDE7-405F-B0A8-90B4A53F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03B6E-6A35-4593-A01C-1AAFC97F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FC305-21A6-4A11-95B5-1B28A7A1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0559C-6783-4F88-AF4C-5B8754CA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1C7E5-9FE2-4EF2-8C6C-44FD7FC0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D9C-760A-421D-85EA-261DC18A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02651-C24E-4BBD-817A-19304BD2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FE97D-9C0E-411E-AB4D-AA90D0D2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85CA-D20B-41E7-B30A-2B39F1E9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3358E-C58A-4931-B6F3-A9D218A5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ED2EE-F83F-4D8B-A37A-75AACB6B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872A2-D781-4C93-8C29-7731130E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00590-00AA-413F-B683-4C1B2EF3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18F57-FB37-4177-8E89-1D2FC2B9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D50E8-16F2-4978-BFB3-2731D396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6F5AA-F124-4A73-968B-4D925F50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768-4EF7-452B-BFD3-267109E5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81127-2BE6-40E5-A7D7-205EC0EA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5BDC7-9D8E-48F0-84D6-096487E6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26535-E486-4D73-930B-10BD4E2C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7B6C1-1D29-40DC-BE5E-711C8309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505BD-9EC7-4243-B844-4D9A878D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0EF5D-B646-41AA-8DF7-830316B9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DB27D-9AFF-42D2-8AB5-C5122DCC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7F916-B31C-474C-B234-D12F1953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53EE7-438B-4D8F-919B-C273BD41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01F64-1E9A-49CC-81C1-13A6874E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DEC2-50A8-49CA-948A-2FE245E58E8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44C9-28E0-4FA2-AB4D-9C290921F9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DC3E-52E5-406B-B9A6-9C90C426859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7DDF-F4B0-4DAF-AC6E-EFF45CC594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D89E-A1C1-4EF0-A2F4-8A3673D7159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978A-F60C-4742-9400-247B019A8A5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EE57-0B66-4A88-BA39-8A71C9AFB4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86F5-CF5C-4FE4-A9AF-21A286A6735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1D64-122E-4D3F-8261-24DCF861753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58B3-B38E-458D-AE5C-142A14F966B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3FDA-5E46-4881-B7D5-E15AFC860D5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6D62-AD83-4939-AA91-154566D3087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114 Dôveruj mi v každý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ôveruj mi v každý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k znie lásky Božej hlas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ti cestu zastrie mra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nebu obráť viery z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ty ma vedieš,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eba sa spoľahn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labosti ma posilu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ím slovom: Dôveru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obzor halí tm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tebe hľadím s dôvero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lu k boju, víťazstv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od teba získa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ty ma vedieš,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eba sa spoľahn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labosti ma posilu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ím slovom: Dôveru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ma, Pane láskavý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voj Duch mocne oslov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žbe mojej dodá vzlet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vojej sile kráčam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ty ma vedieš, vi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teba sa spoľahne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labosti ma posiluj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ím slovom: Dôveruj!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2-18T16:29:30Z</dcterms:modified>
  <cp:revision>21</cp:revision>
  <dc:subject/>
  <dc:title>Je veľký náš Pán, on slávy je Kráľ Nech do všetkých strán  spev vrúcnych znie chvál.</dc:title>
</cp:coreProperties>
</file>